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DE2-C1B2-4F0D-8C6D-4C62A789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E3F-699F-40E4-A13D-565327CF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5F0-DA87-4336-A3EB-5823592E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97A-C068-4E5A-BD2E-F9541FCE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EF5-50E9-4751-933A-7C82A2A2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F9A-C905-4C3C-95A1-6CA83BBC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F07-EFB3-4D94-917C-0DD5F8E0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FE1-6278-49F8-BE4D-15A13855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792-8FE4-4A81-A5FF-A244F01A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235-8C62-4137-BE69-0FD684CA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8E5-13FE-490C-AE67-B3AC1220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496-5958-4833-B1AD-9A67178D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6578-B33A-4F3A-93D3-C144CEC18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Nd9GcTm62HIxP0Z9AhIG8IaauJs8IKNp0to87fgzAgzraXrwJbqEdcV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Fritz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jogging"/>
          <p:cNvPicPr/>
          <p:nvPr/>
        </p:nvPicPr>
        <p:blipFill>
          <a:blip r:embed="rId1"/>
          <a:stretch/>
        </p:blipFill>
        <p:spPr>
          <a:xfrm>
            <a:off x="609480" y="120024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 in der Monat jogge ich jeden 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Ringe jeden tag nach der Schule für meine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ANd9GcQTfqLMYV_HAAJKPvevTz1dLJiz8dL5tt93NXbficc2QcP5V8oDNw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magesCAD0JT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esse viel Obst und Gemüse denn es ist gut für meine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Rz8KSbeE750FkPNcgRC1a9jPXOFacnUoiJ7BRkqTRW9fk73REzQQ"/>
          <p:cNvPicPr/>
          <p:nvPr/>
        </p:nvPicPr>
        <p:blipFill>
          <a:blip r:embed="rId2"/>
          <a:stretch/>
        </p:blipFill>
        <p:spPr>
          <a:xfrm>
            <a:off x="1066680" y="1981080"/>
            <a:ext cx="647712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ANd9GcRW3WayEdXYjhopby87eqSS9JkH81wqPk0XinXBnQoMuFDh_HgbtA"/>
          <p:cNvPicPr/>
          <p:nvPr/>
        </p:nvPicPr>
        <p:blipFill>
          <a:blip r:embed="rId1"/>
          <a:stretch/>
        </p:blipFill>
        <p:spPr>
          <a:xfrm>
            <a:off x="0" y="1646280"/>
            <a:ext cx="9144000" cy="5211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finde es nicht gut dass du rauchst dreimal in der Tag denn rauchen ist nicht Ges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imagesCAT4PT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ist prima dass du trinkst keinen Alkohol weil es ist gut für deiner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TEoA6gEUB0LSx2TzRV95EGCcx_vSBMXOEk9fTmijkVRLKpUt1UmfN0rCdp"/>
          <p:cNvPicPr/>
          <p:nvPr/>
        </p:nvPicPr>
        <p:blipFill>
          <a:blip r:embed="rId2"/>
          <a:stretch/>
        </p:blipFill>
        <p:spPr>
          <a:xfrm>
            <a:off x="380880" y="1752480"/>
            <a:ext cx="7467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gemuesekorb-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snow_leopard"/>
          <p:cNvPicPr/>
          <p:nvPr/>
        </p:nvPicPr>
        <p:blipFill>
          <a:blip r:embed="rId2"/>
          <a:srcRect l="444" t="39397" r="0" b="0"/>
          <a:stretch/>
        </p:blipFill>
        <p:spPr>
          <a:xfrm>
            <a:off x="5791320" y="12193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darf alle Obst und Gemüse essen denn es ist gut für meine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snow_monster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darf nicht in der Schule Rad 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ren weil es ist Winte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snow-leopard-1"/>
          <p:cNvPicPr/>
          <p:nvPr/>
        </p:nvPicPr>
        <p:blipFill>
          <a:blip r:embed="rId2"/>
          <a:stretch/>
        </p:blipFill>
        <p:spPr>
          <a:xfrm>
            <a:off x="4952880" y="342900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19:45Z</dcterms:created>
  <dc:creator>CUSD220</dc:creator>
  <dc:description/>
  <dc:language>en-US</dc:language>
  <cp:lastModifiedBy>Colin Thomson</cp:lastModifiedBy>
  <dcterms:modified xsi:type="dcterms:W3CDTF">2012-02-28T02:58:48Z</dcterms:modified>
  <cp:revision>7</cp:revision>
  <dc:subject/>
  <dc:title>Meine Gesundheit</dc:title>
</cp:coreProperties>
</file>